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562F-EA83-4B4C-A7C6-048A9404EF4D}" type="slidenum">
              <a:rPr b="0" lang="en-S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KSI : ULASAN GURU TERHADAP KEPENTINGAN WATAK DALAM PENULIS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H DISKRIPSI WATAK YANG CANT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RU JELASKAN KEPADA PELAJAR BEBERAPA ASPEK YANG BOLEH DIBERI PERHATIAN SEMASA MENDISKRIPSIKAN SESEORANG WATA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RIPSI WATAK YANG KURANG CANTI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RIPSI FIZIKAL SEORANG GANG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6FE-BC30-473F-9360-BCD6C447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5600" y="427536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138-A55F-48F6-A83D-9483EC0E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5404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197A-8BA4-45C2-9770-8635324F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236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9948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8560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236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9948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FFE-3F04-46D0-842F-4D3FAE79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94DF-7BF8-4051-8B45-F6B4BB6C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85600" y="1911240"/>
            <a:ext cx="6378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44C6-8AC5-4178-A579-7108A5D9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637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1AA5-0792-454F-9EAF-5A6AB939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B8D3-245E-48BF-8667-FA89C368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37C3-6D8C-4D22-89F3-C7EA395E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85600" y="585360"/>
            <a:ext cx="6378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DFA8-F0EA-404A-AAA5-315E3634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D70A-A4D3-410D-951A-6D502D0D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85600" y="1911240"/>
            <a:ext cx="6378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EC0-6756-4482-B5F2-A24CE384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5404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FC1F-BAE9-4697-A341-73A2C67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9D78-C78D-4273-B308-743431BC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85600" y="427536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13A4-8476-4091-9892-0CC743BD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5404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2AF4-230C-4F24-83C0-0C632DFA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4236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99480" y="191124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8560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4236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99480" y="4275360"/>
            <a:ext cx="205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3E52-D412-48DC-8F6F-7CD903A1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637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3D1-E7DB-49FA-AF0A-2AF90C8C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9AE-8315-4D66-9EC9-291B8AC1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784-077B-4650-9553-90BA8CE1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85600" y="585360"/>
            <a:ext cx="6378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7DB-2119-414F-B4AA-4D40E432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D2F-13B4-4BE0-BD56-98515BEB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54040" y="427536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008-ADF8-4412-A039-26D589D3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8560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54040" y="1911240"/>
            <a:ext cx="311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85600" y="4275360"/>
            <a:ext cx="637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E11-8375-4D5F-AF60-7A7FA3EB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85600" y="585360"/>
            <a:ext cx="63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85600" y="1911240"/>
            <a:ext cx="637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7342-20F4-41C7-93BA-FE30BE389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EFAE-D802-4E03-BDE9-57501D4A8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71520" y="1473120"/>
            <a:ext cx="8551800" cy="40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low Solid Italic"/>
              </a:rPr>
              <a:t>Kepentingan watak dalam cerita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low Solid Italic"/>
              <a:ea typeface="Harlow Solid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4840" y="-360"/>
            <a:ext cx="8612280" cy="114300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ngapakah watak penting dalam penulis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080" y="1395360"/>
            <a:ext cx="8666280" cy="515304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lam penulisan, watak memainkan peranan utama kerana ia merupakan tumpuan dan tarikan dalam sesuatu ceri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ffffff"/>
                </a:solidFill>
                <a:latin typeface="Arial"/>
              </a:rPr>
              <a:t>Menyampaikan jalan cerita pengarang lebih jelas menerusi perwatakan wata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ak yang cantik dan istimewa dapat menarik perhatian pemba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96920"/>
            <a:ext cx="9064800" cy="62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kripsi fizikal watak akan dap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hidupkan cerita </a:t>
            </a:r>
            <a:r>
              <a:rPr b="0" lang="en-SG" sz="3200" spc="-1" strike="noStrike">
                <a:solidFill>
                  <a:srgbClr val="ffffff"/>
                </a:solidFill>
                <a:latin typeface="Arial"/>
              </a:rPr>
              <a:t>dengan lebih berupa reali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3200" spc="-1" strike="noStrike">
                <a:solidFill>
                  <a:srgbClr val="ffffff"/>
                </a:solidFill>
                <a:latin typeface="Arial"/>
              </a:rPr>
              <a:t>Mewujudkan konflik dengan watak 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un tidak semestinya diskripsi sesuatu watak hanya tertumpu kepada kecantikkan saha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am penghasilan penulisan, kita harus bijak mendiskripsikan ciri-ciri fizikal watak supaya para pembaca dapat membayangkan rupa watak tersebu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2680" y="431280"/>
            <a:ext cx="8611920" cy="114300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3040" y="1642680"/>
            <a:ext cx="8369280" cy="493092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Wajahnya cantik ibarat kacukan Ar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Melayu. Dahinya licin. Matanya bundar d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bercahaya dilengkap dengan kening y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lebat bagai diukir. Bibirnya kemer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Merahan biarpun tanpa dipalit gincu. Itul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Insyirah, seorang gadis yang pernah 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gelar sahab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2680" y="431280"/>
            <a:ext cx="8611920" cy="114300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25600" y="1910880"/>
            <a:ext cx="8539200" cy="494676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Tidak jauh dari situ, terduduk seorang lelaki muda, kira-kira 25 tahun, berbadan tegap dan berkulit coklat kehitaman. Dari jauh, kelihatan seakan kacak. Namun, sayang, indah khabar dari rupa. Bintik-yang masih kemerah-merahan memenuhi hampir seluruh mukanya. Di sana-sini, kesan kudis dan kelecuran yang sudah kehitaman, Matanya kelihatan kuyu. Kepiluan jelas tergambar daripada renungan matanya. Memang benar, rupa tidak kekal, dia berkata sendirian dari benak hati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2680" y="431280"/>
            <a:ext cx="8611920" cy="114300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38000"/>
            <a:ext cx="8539200" cy="494676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Tiga aksara dalam binatang bahasa Cina meny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di lengan kananku. Di belakang badanku..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tengah dadaku..Tatu tatu kemegahan terukit 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sana-sini. Kedua telingaku berlubang-luba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Bahkan hidup, lidah malahan lubang pusatku ju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dihiasi dengan aksesori pelbagai bentuk dan rup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2680" y="431280"/>
            <a:ext cx="8611920" cy="114300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oh Frasa/Perkataan yang dapat digunakan untuk mendiskripsikan wat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5600" y="1910880"/>
            <a:ext cx="8539200" cy="4946760"/>
          </a:xfrm>
          <a:prstGeom prst="rect">
            <a:avLst/>
          </a:prstGeom>
          <a:noFill/>
          <a:ln w="76320">
            <a:solidFill>
              <a:srgbClr val="3a5f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ki yang tempang dan jalan terinjit-inj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ungan manja dan menggoda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lit yang berbintik-bintik panau dan kudis yang terkopek-kop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ung mancung bak selud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wajah bengis dan menggerun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pakaian compang-cam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20:12:11Z</dcterms:created>
  <dc:creator>shakz</dc:creator>
  <dc:description/>
  <dc:language>en-US</dc:language>
  <cp:lastModifiedBy>nurashikin</cp:lastModifiedBy>
  <dcterms:modified xsi:type="dcterms:W3CDTF">2010-02-22T03:17:31Z</dcterms:modified>
  <cp:revision>3</cp:revision>
  <dc:subject/>
  <dc:title>Slide 1</dc:title>
</cp:coreProperties>
</file>